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FAF-5CD3-4E91-A785-5C53077C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736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BFE-87DF-4C29-BBE2-C9B139A3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68C-E10C-4A97-8919-0CD0E523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B3D-1A7B-413C-AB7A-47171F6D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A36-D62E-4681-ACB4-A5EB5E35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70736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461-5D98-451F-B686-648E479D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736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148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172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D37-D515-4CBE-A3ED-94CE2B7B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A81-25E0-4365-ABD0-6593E607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8FB-7DFB-42C0-AEC2-C9501690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F89-4491-4FFB-9FEE-2BA32E2B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911-AE16-4EFC-8655-7120C80B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0AD-0DAB-480D-B7CC-E3A647B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F1AE4-4DC0-454C-A478-F4FE73F564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71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НОВЫ ТЕОРИИ ИНФОРМАЦИИ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ятие информации. Количество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Закон аддитивности.  Алфавитный подход к измерению информации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120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закону аддитивности, количество информации, содержащееся в сообщении, состоящем из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мволов одного и того же алфавита, рав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32360" y="3311640"/>
            <a:ext cx="1761840" cy="498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63640" y="3887640"/>
            <a:ext cx="806436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5, 6 стр. 2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§5.4 прочитать,  №1,6 с. 2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тимальное кодирование 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её слож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НОВЫ ТЕОРИИ ИНФОРМАЦИИ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4040" y="266760"/>
            <a:ext cx="860904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ое кодирование  информации и её сложность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6000" y="1510920"/>
            <a:ext cx="420048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3164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дача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современной информатики — кодирование информации  наиболее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ротким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3813120"/>
            <a:ext cx="928836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показывает средний информационный вес  символов того или иного алфавита или энтропию распределения частот появления симво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Не существует  универсального  способа кодирования произвольного файла с частотными характеристиками встречающихся символов, который бы обеспечивал сжатие до величи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меньшей, ч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лгорит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лгорит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Хафм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рифметическое код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0000" y="3009960"/>
            <a:ext cx="6624360" cy="641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16720" y="1974960"/>
            <a:ext cx="23763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ула Шенн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4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rcRect l="21440" t="0" r="10111" b="39492"/>
          <a:stretch/>
        </p:blipFill>
        <p:spPr>
          <a:xfrm>
            <a:off x="8280360" y="1440000"/>
            <a:ext cx="1655640" cy="19508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sp>
        <p:nvSpPr>
          <p:cNvPr id="169" name=""/>
          <p:cNvSpPr/>
          <p:nvPr/>
        </p:nvSpPr>
        <p:spPr>
          <a:xfrm>
            <a:off x="4896000" y="4464000"/>
            <a:ext cx="72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67280" y="5904000"/>
            <a:ext cx="720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499680"/>
            <a:ext cx="860904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ое кодирование  информации и её сложность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строение одного из универсальных  алгоритмов кодирования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9880" y="4819680"/>
            <a:ext cx="420048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длина кода, код}{длина кода, код}...{длина кода, код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Rice  и Дельта-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30800" y="4824360"/>
            <a:ext cx="42004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фиксный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код одного символа не может быть началом кода другого симво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39680" y="2155680"/>
            <a:ext cx="8607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личные символы встречаются в тексте с различной частотой, то естественно кодировать их так, чтобы  те которые встречаются  чаще кодировались более коротко, а другие — длиннее (неравномерный к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БЛ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понять, где кончился код одного символа и начался друг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957120" y="4319640"/>
            <a:ext cx="115596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27640" y="431964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144360"/>
            <a:ext cx="9707400" cy="72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40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ое кодирование  информации и её сложно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фиксный код Хаффмана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03280" y="1940040"/>
            <a:ext cx="1706400" cy="2379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19280" y="2172960"/>
            <a:ext cx="733608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применимый алгоритм построения префиксного кода для произвольного  алфав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 на  с. 278-279 пособ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00" y="4357800"/>
            <a:ext cx="239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эвид Хафф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25-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592360" y="3946680"/>
            <a:ext cx="7343640" cy="33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573120" y="5470560"/>
          <a:ext cx="8776800" cy="1391760"/>
        </p:xfrm>
        <a:graphic>
          <a:graphicData uri="http://schemas.openxmlformats.org/drawingml/2006/table">
            <a:tbl>
              <a:tblPr/>
              <a:tblGrid>
                <a:gridCol w="4739400"/>
                <a:gridCol w="4037400"/>
              </a:tblGrid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(а),0.22(b), 0.16(c), 0.14(d), 0.11(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0">
                      <a:solidFill>
                        <a:srgbClr val="000080"/>
                      </a:solidFill>
                    </a:lnL>
                    <a:lnR w="7200">
                      <a:solidFill>
                        <a:srgbClr val="000080"/>
                      </a:solidFill>
                    </a:lnR>
                    <a:lnT w="7200">
                      <a:solidFill>
                        <a:srgbClr val="000080"/>
                      </a:solidFill>
                    </a:lnT>
                    <a:lnB w="720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(a),10(b),11(c), 010(d), 011(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0">
                      <a:solidFill>
                        <a:srgbClr val="000080"/>
                      </a:solidFill>
                    </a:lnL>
                    <a:lnR w="7200">
                      <a:solidFill>
                        <a:srgbClr val="000080"/>
                      </a:solidFill>
                    </a:lnR>
                    <a:lnT w="7200">
                      <a:solidFill>
                        <a:srgbClr val="000080"/>
                      </a:solidFill>
                    </a:lnT>
                    <a:lnB w="720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(а), 0.25(de), 0.22(b), 0.16(c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0">
                      <a:solidFill>
                        <a:srgbClr val="000080"/>
                      </a:solidFill>
                    </a:lnL>
                    <a:lnR w="7200">
                      <a:solidFill>
                        <a:srgbClr val="000080"/>
                      </a:solidFill>
                    </a:lnR>
                    <a:lnT w="7200">
                      <a:solidFill>
                        <a:srgbClr val="000080"/>
                      </a:solidFill>
                    </a:lnT>
                    <a:lnB w="720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(a),01(de),10(b),11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0">
                      <a:solidFill>
                        <a:srgbClr val="000080"/>
                      </a:solidFill>
                    </a:lnL>
                    <a:lnR w="7200">
                      <a:solidFill>
                        <a:srgbClr val="000080"/>
                      </a:solidFill>
                    </a:lnR>
                    <a:lnT w="7200">
                      <a:solidFill>
                        <a:srgbClr val="000080"/>
                      </a:solidFill>
                    </a:lnT>
                    <a:lnB w="720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(а), 0.38(bc), 0.25(de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0">
                      <a:solidFill>
                        <a:srgbClr val="000080"/>
                      </a:solidFill>
                    </a:lnL>
                    <a:lnR w="7200">
                      <a:solidFill>
                        <a:srgbClr val="000080"/>
                      </a:solidFill>
                    </a:lnR>
                    <a:lnT w="7200">
                      <a:solidFill>
                        <a:srgbClr val="000080"/>
                      </a:solidFill>
                    </a:lnT>
                    <a:lnB w="720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(bc), 00(a),01(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0">
                      <a:solidFill>
                        <a:srgbClr val="000080"/>
                      </a:solidFill>
                    </a:lnL>
                    <a:lnR w="7200">
                      <a:solidFill>
                        <a:srgbClr val="000080"/>
                      </a:solidFill>
                    </a:lnR>
                    <a:lnT w="7200">
                      <a:solidFill>
                        <a:srgbClr val="000080"/>
                      </a:solidFill>
                    </a:lnT>
                    <a:lnB w="720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(аde), 0.38(b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0">
                      <a:solidFill>
                        <a:srgbClr val="000080"/>
                      </a:solidFill>
                    </a:lnL>
                    <a:lnR w="7200">
                      <a:solidFill>
                        <a:srgbClr val="000080"/>
                      </a:solidFill>
                    </a:lnR>
                    <a:lnT w="7200">
                      <a:solidFill>
                        <a:srgbClr val="000080"/>
                      </a:solidFill>
                    </a:lnT>
                    <a:lnB w="720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(ade),1(b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0">
                      <a:solidFill>
                        <a:srgbClr val="000080"/>
                      </a:solidFill>
                    </a:lnL>
                    <a:lnR w="7200">
                      <a:solidFill>
                        <a:srgbClr val="000080"/>
                      </a:solidFill>
                    </a:lnR>
                    <a:lnT w="7200">
                      <a:solidFill>
                        <a:srgbClr val="000080"/>
                      </a:solidFill>
                    </a:lnT>
                    <a:lnB w="720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287280" y="5543640"/>
            <a:ext cx="285840" cy="1368360"/>
          </a:xfrm>
          <a:prstGeom prst="downArrow">
            <a:avLst>
              <a:gd name="adj1" fmla="val 50000"/>
              <a:gd name="adj2" fmla="val 119679"/>
            </a:avLst>
          </a:prstGeom>
          <a:solidFill>
            <a:srgbClr val="00458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31280" y="5543640"/>
            <a:ext cx="287280" cy="1439640"/>
          </a:xfrm>
          <a:prstGeom prst="upArrow">
            <a:avLst>
              <a:gd name="adj1" fmla="val 50000"/>
              <a:gd name="adj2" fmla="val 125282"/>
            </a:avLst>
          </a:prstGeom>
          <a:solidFill>
            <a:srgbClr val="00458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ое кодирование  информации и её сложно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жатие файлов на основ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а сложности (RLE, LZ)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50960" y="3886200"/>
            <a:ext cx="86090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оследовательность 01010101010101 является менее  сложной, чем 1001110000, т. к.  первую можно заменить на более короткую, построенную  по другим правилам: 7(01)=1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01), а пути сокращения второй — не очевид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ется ли числ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3,14159256... сложны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2880" y="1944720"/>
            <a:ext cx="8547120" cy="172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705200" y="35989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871640" y="6478560"/>
            <a:ext cx="5975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= длина любой окружности / её диа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ое кодирование  информации и её сложно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ая работа «Префиксный код Хаффмана»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2000" y="2232000"/>
            <a:ext cx="860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№ 2 с. 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строить код Хафф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ценить размер полученного файла(см. пример 9) и энтропию распределения (ф. Шенно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 5.6, з №1,3. Подготовится к к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нятие информации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9880" y="6695640"/>
            <a:ext cx="8593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нформации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ая половина XX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72000" y="1817640"/>
            <a:ext cx="2808000" cy="36543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34880" y="1817640"/>
            <a:ext cx="2805120" cy="36003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sp>
        <p:nvSpPr>
          <p:cNvPr id="129" name=""/>
          <p:cNvSpPr/>
          <p:nvPr/>
        </p:nvSpPr>
        <p:spPr>
          <a:xfrm>
            <a:off x="503280" y="5575320"/>
            <a:ext cx="28083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од Э́лвуд Ше́ннон (С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43280" y="5543640"/>
            <a:ext cx="280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е́й Никола́евич Колмого́ров (Росс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983280" y="1817640"/>
            <a:ext cx="2664000" cy="372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983280" y="5616720"/>
            <a:ext cx="2664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льф Винтон Лайон Хартли (С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нятие информации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3280" y="2101680"/>
            <a:ext cx="443700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нформ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— э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ве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, обладающие такими характеристиками, как понятность, достоверность, новизна и акт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с точки зрения челове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9520" y="5000760"/>
            <a:ext cx="456084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нформ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— это  снята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еопреде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по 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 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Шенно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30800" y="5145120"/>
            <a:ext cx="456084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нформационный объ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сообщения — количество  двоичных символов, которое используется для кодирования этого сообщ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0360" y="2160720"/>
            <a:ext cx="489564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оличество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-  минимально возможное  количество двоичных знаков, необходимых для кодирования  последовательности  к содержанию представленного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по А.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Колмогоров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Единицы измерения информации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единицу измерения информации приня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б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т анг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ary dig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бит — это  количество информации, которое можно передать в  сообщении, состоящем из одного двоичного знака (0 или 1) — </a:t>
            </a:r>
            <a:r>
              <a:rPr b="0" i="1" lang="ru-RU" sz="2400" spc="-1" strike="noStrike">
                <a:solidFill>
                  <a:srgbClr val="000080"/>
                </a:solidFill>
                <a:latin typeface="Times New Roman"/>
              </a:rPr>
              <a:t>алфавитный под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бит — это количество информации, уменьшающее неопределенность знаний в два раза —</a:t>
            </a:r>
            <a:r>
              <a:rPr b="0" i="1" lang="ru-RU" sz="2400" spc="-1" strike="noStrike">
                <a:solidFill>
                  <a:srgbClr val="000080"/>
                </a:solidFill>
                <a:latin typeface="Times New Roman"/>
              </a:rPr>
              <a:t> содержательный под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Кб (килобайт) = 2</a:t>
            </a:r>
            <a:r>
              <a:rPr b="0" lang="ru-RU" sz="2000" spc="-1" strike="noStrike" baseline="33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айт = 1024 бай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Мб (мегабайт) = 2</a:t>
            </a:r>
            <a:r>
              <a:rPr b="0" lang="ru-RU" sz="2400" spc="-1" strike="noStrike" baseline="33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б = 1024 К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Гб (гигабайт) = 2</a:t>
            </a:r>
            <a:r>
              <a:rPr b="0" lang="ru-RU" sz="2400" spc="-1" strike="noStrike" baseline="33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б = 1024 М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Тб (терабайт) = 2</a:t>
            </a:r>
            <a:r>
              <a:rPr b="0" lang="ru-RU" sz="2400" spc="-1" strike="noStrike" baseline="33000">
                <a:solidFill>
                  <a:srgbClr val="000000"/>
                </a:solidFill>
                <a:latin typeface="Times New Roman"/>
              </a:rPr>
              <a:t>1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 =1024 Г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ОПРОСЫ И ЗАДАНИЯ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жите, как вы понимаете термин «информация». Что общего и каковы различия между бытовым понятием этого термина и его научными трактов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гре в кости используется два игральных кубика, грани которых помечены числами от 1 до 6. В чем заключается неопределенность знаний о бросании одного кубика? Двух кубиков одновремен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гигабайт содержится  в 2 </a:t>
            </a:r>
            <a:r>
              <a:rPr b="0" lang="ru-RU" sz="2400" spc="-1" strike="noStrike" baseline="33000">
                <a:solidFill>
                  <a:srgbClr val="000000"/>
                </a:solidFill>
                <a:latin typeface="Arial"/>
              </a:rPr>
              <a:t>18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лобай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мегабайт содержится в 2 </a:t>
            </a:r>
            <a:r>
              <a:rPr b="0" lang="ru-RU" sz="2400" spc="-1" strike="noStrike" baseline="33000">
                <a:solidFill>
                  <a:srgbClr val="000000"/>
                </a:solidFill>
                <a:latin typeface="Arial"/>
              </a:rPr>
              <a:t>2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лоби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Формула Хартли определения информации.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рок 2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2360" y="1944720"/>
            <a:ext cx="934236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Закон аддитивности.  Алфавитный подход к измерению информации.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рок 3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1640" y="1986120"/>
            <a:ext cx="957600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Закон аддитивности.  Алфавитный подход к измерению информации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1240" y="2101680"/>
            <a:ext cx="8609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огласно основному  логарифмическому тождест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28720" y="2592360"/>
            <a:ext cx="6386760" cy="647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79640" y="3743280"/>
            <a:ext cx="79912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 аддитивности информа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информации необходимое для установления пары (х1, х2), равно сумме количеств информации необходимых для независимого установления элементов х1 и х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4 с. 2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информации, содержащееся с одном символе, называется 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м ве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рассчитывается по формуле Харт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322800" y="6408720"/>
            <a:ext cx="114120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Закон аддитивности.  Алфавитный подход к измерению информации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1240" y="2101680"/>
            <a:ext cx="8609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огласно основному  логарифмическому тождест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28720" y="2592360"/>
            <a:ext cx="638676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79640" y="3743280"/>
            <a:ext cx="79912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 аддитивности информа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информации необходимое для установления пары (х1, х2), равно сумме количеств информации необходимых для независимого установления элементов х1 и х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4 с. 2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информации, содержащееся с одном символе, называется 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м ве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рассчитывается по формуле Харт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322800" y="6408720"/>
            <a:ext cx="1141200" cy="43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14:18:03Z</dcterms:created>
  <dc:creator/>
  <dc:description/>
  <dc:language>en-US</dc:language>
  <cp:lastModifiedBy>Ольга </cp:lastModifiedBy>
  <dcterms:modified xsi:type="dcterms:W3CDTF">2013-11-15T16:07:08Z</dcterms:modified>
  <cp:revision>12</cp:revision>
  <dc:subject/>
  <dc:title/>
</cp:coreProperties>
</file>